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43F-36C7-42D1-A7F4-78C536F0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046C-A549-44A5-BDA0-C8A97877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A1C0-0325-4991-AB14-8BDA12D1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217F-21FE-46CC-A224-3FB465A4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847-2678-4619-8078-995BAFE0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6A6-79F7-47C9-A6BE-3F0C129B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A64-125C-49D9-BD7E-B0B43C61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AD3-0332-4D45-AB6D-61401DDD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CA6-852C-4EFC-8489-2B70CC71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3BC7-93B8-4834-860A-9CCF2BFD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199F-E490-4C63-98DE-7C58A8B5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318-85A6-480A-A91B-C783AD1D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C790-35F7-44DC-91C2-27A6D44BF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84360" y="-928440"/>
            <a:ext cx="6551640" cy="694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bbe0e3"/>
                </a:solidFill>
                <a:latin typeface="Bookman Old Style"/>
              </a:rPr>
              <a:t>9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акъв, какъвто съ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със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сра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без всяко извинени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при Теб аз, грешен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в Твоя храм дошел съм, Божи Агнец скъп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48000" y="-418320"/>
            <a:ext cx="5653080" cy="54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2. Какъвто съ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във Твойта кръ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е мойто упов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Във вечна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воя любов аз вярва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Божи Агнец ми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36360" y="-1304640"/>
            <a:ext cx="565308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3. Такъв, какъвто съм: 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борби отвън, отвътре 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 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страхове, Ти Покровител ми бъди! Дошел съ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Божи Агнец скъп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11640" y="-83160"/>
            <a:ext cx="5653080" cy="47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4. Какъвто съ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сляп, сиромах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за здраве и спасени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за избавление от грях дошел съ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Божи Агнец ми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59280" y="115920"/>
            <a:ext cx="4178520" cy="522936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0" y="-488520"/>
            <a:ext cx="565308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5. Какъвто съм, но 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вярвам а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във Твойт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обещани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Затуй покорн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ози ча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ошел съ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Божи Агнец скъп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0:46:23Z</dcterms:created>
  <dc:creator>TrifonTrifonow</dc:creator>
  <dc:description/>
  <dc:language>en-US</dc:language>
  <cp:lastModifiedBy>TrifonTrifonow</cp:lastModifiedBy>
  <dcterms:modified xsi:type="dcterms:W3CDTF">2005-11-22T09:16:01Z</dcterms:modified>
  <cp:revision>16</cp:revision>
  <dc:subject/>
  <dc:title>Slide 1</dc:title>
</cp:coreProperties>
</file>